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3899-5AC6-499D-9330-434203D1B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8DF5-1FE3-4065-93BF-9ABAF27F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C717-64F9-444E-BE81-2BB650C93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7DD0-3D2A-468C-8F30-411B995F2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8978-36F8-441A-AADD-7CA353AF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FC51-0954-4593-840F-494EFE8F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BEF3-3960-483A-9447-71923A36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4A3F-DBE6-49DC-BD02-CF9010BA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8764-CB1D-4CB8-A2DE-8DC2B96B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487F-4D73-4D50-9BCC-DA1A39C1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CD7C-5984-463C-92C6-68447799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B5B9-8C12-479D-B21B-AD156E21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CDBB-9ABD-4CA0-83A7-F1EC7BBBF41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1079640" cy="1260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ATC ROB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0" y="8571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ffffff"/>
                </a:solidFill>
                <a:latin typeface="Calibri"/>
                <a:cs typeface="Cordia New"/>
              </a:rPr>
              <a:t>วิทยาลัยเทคนิคสัตหี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2206800" y="1428840"/>
            <a:ext cx="107928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07196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592920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770724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320760" y="3049560"/>
            <a:ext cx="4680000" cy="28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Calibri"/>
              </a:rPr>
              <a:t>รูปหุ่นยนต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5214960" y="3071880"/>
            <a:ext cx="3600360" cy="21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alibri"/>
              </a:rPr>
              <a:t>รูป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14292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เสกสรร  ศรีจันทร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75009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นิรนาม  สังข์เทีย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5715000" y="2714760"/>
            <a:ext cx="1500120" cy="641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นายธัญลักษณ์  นามวงษ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8"/>
          <p:cNvSpPr/>
          <p:nvPr/>
        </p:nvSpPr>
        <p:spPr>
          <a:xfrm>
            <a:off x="3857760" y="2714760"/>
            <a:ext cx="1500120" cy="459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ปภาวิชญ์   ศรีบริสุทธิ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9"/>
          <p:cNvSpPr/>
          <p:nvPr/>
        </p:nvSpPr>
        <p:spPr>
          <a:xfrm>
            <a:off x="20001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อภินันท์  วัลลิสุ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52440" y="1441440"/>
          <a:ext cx="107964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2440" y="1441440"/>
                    <a:ext cx="107964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216400" y="3087720"/>
          <a:ext cx="3594240" cy="21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6400" y="3087720"/>
                    <a:ext cx="35942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195640" y="1413000"/>
            <a:ext cx="111420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067280" y="1413000"/>
            <a:ext cx="1109520" cy="129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7686720" y="1413000"/>
            <a:ext cx="1114560" cy="1295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5911920" y="1413000"/>
            <a:ext cx="111132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รูปภาพ 7" descr="Assem1.JPG"/>
          <p:cNvPicPr/>
          <p:nvPr/>
        </p:nvPicPr>
        <p:blipFill>
          <a:blip r:embed="rId10"/>
          <a:srcRect l="0" t="0" r="0" b="-80"/>
          <a:stretch/>
        </p:blipFill>
        <p:spPr>
          <a:xfrm>
            <a:off x="380880" y="3059280"/>
            <a:ext cx="460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2:38:21Z</dcterms:created>
  <dc:creator>pymta</dc:creator>
  <dc:description/>
  <dc:language>en-US</dc:language>
  <cp:lastModifiedBy>seksan</cp:lastModifiedBy>
  <dcterms:modified xsi:type="dcterms:W3CDTF">2009-10-02T07:43:36Z</dcterms:modified>
  <cp:revision>38</cp:revision>
  <dc:subject/>
  <dc:title>Slide 1</dc:title>
</cp:coreProperties>
</file>